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0829-E8DF-4B1B-A0F2-9F211AE1F2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06E7-DA33-485E-BCB4-1D812E1D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B66A6-C972-402A-89FC-1B6C1C55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DFF3-BB1D-42CD-8E3B-515AA5E3B9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24D7-BF11-437D-BF88-0DB54B6E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31AE-48B9-4540-892C-BCBF06B7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680A-5E29-4C55-9FF9-9155E22F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AE6B-0585-41D8-845A-CE660003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0997-9C5A-4E0F-8445-07C507B5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C1AE-F139-428F-BEB7-A52A1F33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41E8-444F-4007-9EF6-1709AE05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CA72-199E-41C0-83CF-6CFB8506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D798-F5A7-4760-971D-3AA3225090E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7128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七章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组胺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与抗组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31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对中枢神经系统抑制作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从轻度思睡到沉睡、嗜睡、肌肉软弱、乏力、头晕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头痛、共济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偶有烦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谵妄、抽搐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胃肠道反应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口干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欲缺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、恶心、呕吐、上腹部不适、腹泻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便秘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心血管系统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胸闷、心悸、心动过速、高血压或低血压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视力模糊、耳鸣、皮疹、光敏感、排尿困难、阳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详见消化系统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掌握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1)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苯海拉明、异丙嗪、氯苯                                                                  那敏等的药理作用、临床应用、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3600" spc="-1" strike="noStrike">
                <a:solidFill>
                  <a:srgbClr val="046ca6"/>
                </a:solidFill>
                <a:latin typeface="宋体"/>
                <a:ea typeface="宋体"/>
              </a:rPr>
              <a:t>(2)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H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受体阻断药的药理作用、临床应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熟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：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受体分型及其作用特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组胺、组胺受体及其效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广泛存在于机体各组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经肥大细胞脱颗粒释放入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作用强大而广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通过受体产生效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260360" y="1844640"/>
          <a:ext cx="6707160" cy="337176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796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 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 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受 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拮抗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血管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扩张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通透性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脏（直接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力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吡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心率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房室传导↓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氯苯丁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肠道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异丙嗪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支气管平滑肌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收缩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海拉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壁细胞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胃液分泌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西咪替丁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枢及外周神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组胺合成与释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硫丙咪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2700360" y="1341360"/>
            <a:ext cx="39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组胺对人体的主要作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效应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60360" y="2205000"/>
            <a:ext cx="6696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404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药理作用及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804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诊断嗜铬细胞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胃分泌功能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晨起空腹注入组胺后测胃液，无胃酸分泌为真性胃酸缺乏症（如胃癌、恶性贫血等）或胃酸减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颜面潮红、头痛、腹痛、心悸、体位性低血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还可引起严重的呼吸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抗组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2360" y="3501720"/>
            <a:ext cx="878544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受体阻断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苯海拉明、曲吡那敏、氯苯那敏、去氯羟嗪、异丙嗪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14440"/>
            <a:ext cx="7347240" cy="17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抗组胺药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受体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1773360"/>
            <a:ext cx="92160" cy="914400"/>
          </a:xfrm>
          <a:custGeom>
            <a:avLst/>
            <a:gdLst>
              <a:gd name="textAreaLeft" fmla="*/ 59040 w 92160"/>
              <a:gd name="textAreaRight" fmla="*/ 92520 w 921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药理作用和作用机制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81080" y="1052640"/>
            <a:ext cx="8929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拮抗组胺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H</a:t>
            </a:r>
            <a:r>
              <a:rPr b="1" lang="zh-CN" sz="32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受体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完全对抗组胺的平滑肌兴奋、血管通透性增加作用、  部分对抗组胺的降压作用和心脏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中枢抑制作用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镇静、嗜睡等中枢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中枢抑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苯茚胺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略有中枢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抗胆碱作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受体阻断药具有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特非那定和阿斯咪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无抗胆碱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．其他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子宫、膀胱平滑肌有直接兴奋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7080" y="304560"/>
            <a:ext cx="8158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变态反应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哮喘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晕动症及呕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苯海拉明、异丙嗪、布克利嗪、美克洛秦等对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动症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妊娠呕吐及放射病呕吐等均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．其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管神经性水肿、输血反应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梅尼埃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综合征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血清病及其他药物过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13:30Z</dcterms:modified>
  <cp:revision>2</cp:revision>
  <dc:subject/>
  <dc:title>  第二十七章    组胺                  与抗组胺药</dc:title>
</cp:coreProperties>
</file>